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376-4A5F-4475-B7FA-7C3D5F25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6D6-05E8-4960-88E1-283697ED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B15-6C2E-4E5A-8DB4-3E8012E2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698-8969-48DD-9B17-70EB847E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E17-B472-40FA-9A38-029610FC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731-1A36-473C-B435-C1485BFB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EC2-77F9-403E-A2B5-1A50BC2F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A37-9A3C-4383-BF05-023DCA62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ED6-2571-49B3-A760-FA8EC51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C90-7A61-49A3-B796-05FEB528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166-4861-4341-A2CF-4CC44B3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899-5F4A-49EF-B295-A22B46D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5AF-21F6-457A-A470-18E44FF3799D}" type="slidenum"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сновни принципи 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везивно тки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3520" y="1356840"/>
            <a:ext cx="7386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ажа има благотворно дејство на тетиве и лигам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чешће промене на тетивама 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ндинити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 дегенерација колагена у тетиви. Масажа побољшава пролиферацију фибробласта&gt; опоравак оштећеног тки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терапиј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носиновитис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р смањује упалу и иритацију, и спречава настанак адхезија између тетиве и њеног омотач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 повреда меких ткива, услед имобилизације и смањења покрета долази до стварања вишка везивног ткива (ожиљка). Ожиљак може ометати преношење импул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тицај масаже на псих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63520" y="785880"/>
            <a:ext cx="8523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шке и физичке компоненте здравља тесно повезане у процесу постизања и одржавања и оптималног здравља Осећај релаксираности није само последица смањеног мишићног тону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ањује стрес и анксиозност, делује сугестивно и опуштајуће на психу, умирује напетост, терапијски делује на нервозу, главобољу и несаниц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ажа је корисна и за масера. Заједничка искуства и активности зближавају људе, и представљају посебан вид комуникације (близак контакт између две особ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Додир и интеракција између пацијента и масера представљају један од главних елемената ефикасности масаже. Поверење у масера има важну ул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ни приступ пацијен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флексни утицаји масаж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3520" y="713880"/>
            <a:ext cx="85946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и  ефекти масаже нису последица директних физич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з одговора које регулише ВН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ан од најјачих рефлексних одговора ј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дговор имуног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, а последично и убрзан процес оздрављења (смањује нивое хормона стреса&gt;побољшање имуните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аж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нижава Т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хемијски и психолошки фактори),  и поправља циркулациј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ажа везивног ткива доводи до повећања протока крви кроз орга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ктивирајући кутано-висцералне рефлексе. Ови рефлекси поправљају циркулацију у датој регији, и доводе до смањења осећаја бола. Аналгетски ефекат масаже објашњава се и отпуштањем бета-ендорф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ни ефекти масаже посебно су изражени у  Туи На, Шијацу, акупресу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флексни утицаји масаж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2920" y="85680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 се изазват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исцеросомат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ефлекс. Овај рефлекс укључује реакције у ЦНС путем висцералних (органа) и соматских ткива (обично мишићних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вна влакна  иду до трбушних органа, и од њих, излазе из кичмене мождине на истом нивоу као и сензорна и моторна влакна за леђне и трбушне мишиће. Због анатомске близине, развијају се рефлексни лукови између висцералних и соматских влакана који омогућавају њихову интеракцију. Вишак сензорних импулса из дисфункционалних органа може путовати ка кичменој мождини и „прелити“ се у рефлексном луку до мишићног ткива, чија моторна влакна полазе са истог нивоа, изазивајући повећање моторних сигнала и последично повећање мишићне напет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нути процес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матовисцерални рефлек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дразумева «преливање» сигнала из пренапетих мишића до нерава који воде до органа, што доводи до дисфункционалног нивоа стимулације органа и евентуалних поремећаја рада орга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Општа дејств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3520" y="500040"/>
            <a:ext cx="7386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 општег зам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улација мишићног тону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лакс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 ефек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д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ње циркулације и лимфот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аболички ефек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окална деј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3520" y="785880"/>
            <a:ext cx="738648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перем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ње метаболиз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ивност знојних и лојних жлез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сорпција ото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ећање тургора и еластичности кож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бољшање епителизације и гранул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алгетски ефека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азмолитички ефека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63520" y="571680"/>
            <a:ext cx="7386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лојеви ко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Епидерм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је горњи, површнији слој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5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азални слој  је дубљи,  непрестано производи нове ћелије, које се постепено померају ка 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старе и умиру. Тиме је површина коже прекривена мртвим ћелијама пуним кератина, који кожи даје чврсти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Дерм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има крвне и лимфне судове, нерве, фоликуле длака, знојне и лојне жлез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С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лој поткож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63520" y="785880"/>
            <a:ext cx="8523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шће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рт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мфо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ле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тегнут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ластич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о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ргор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.);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ткл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ноћ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рављ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с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сање, отпор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љ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аж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ој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ј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лез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ре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2-3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раш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еспрекор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атом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олог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шт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лп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ја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таљ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р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зуе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серв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нуел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рет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1/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шић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елет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di Caprio,200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ње циркулације у крвним судовима ко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им механичким дејством на крвне и лимфне суд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ем вазоактивних мате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м аутономног нервног система на стимулацију ћелиј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es, 20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63520" y="404280"/>
            <a:ext cx="81662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времено повећ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масиране регије за 2 до 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још један од доказа постојања хиперемије. 30 минута од завршетка масаже кожа поново и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коју је имала пре масаж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зам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ексном хиперемиј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им 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вом на кож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)везивно ткиво постаје растреситије, а тиме кожа мек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) поправља  отпорност коже на спољашње утицаје Ефекат заштите се може појачати добро одабраним средством за масаж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) доприноси здрављу и еластичности коже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) убрзава  метаболизам, поготову метаболизам азотних материја, и повећава излучивање мокра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глоб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642600"/>
            <a:ext cx="7650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ноги аутори препоручују благу и постепену масажу зглобова кратко време након повреде, да би се брже ресорбовао о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олико није реч о тешкој повреди зглоба, која захтева имобилизацију, већ 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трећег дана од наста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 почети изнад и испод зглоба, а тек онда прећи на масажу самог згло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једини аутори сматрају да  директно дејство на зглобове треба потпуно избегава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onsengei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убризгавао туш у колена експерименталног зеца, пре масаже;  једно колено је масирао, а друго не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ш из масираног колена дошао чак до препоне, би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 је  у локалним лимфним жлездама и лимфотоку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 страни која није масирана туш је остао на месту апликаци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zar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лимфа најбрже истиче из цевчице постављене у лимфни суд пса када се пас креће, нешто спорије кад се нога пса масира, а најспорије кад нога мируј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иши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зив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57160"/>
            <a:ext cx="7650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 deltoide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uglast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m trapezi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pezoidn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m rhomboideus.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m intrecostale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између ребара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m front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чео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flexor carpii radi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регибач руч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а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gluteus maximus 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и у групи;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 peroneus long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дуги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дуж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eroneus brev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крат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бли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642600"/>
            <a:ext cx="7650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leln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tena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m. biceps femoris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na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m.sartor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ast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ennat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opo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spore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s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nos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tiv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šić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nipennat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.ext digitorum longus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bipennatus (m.rectus femoris) multipennatus ( m.deltoide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rkularn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cent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č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opo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ir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finkte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rbicularis ocul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 полазиш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b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 brachii, m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t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 surae, m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quad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extensor carpi radialis long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мишић који исправља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ручје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arp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, лежи дуж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jus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и дужи је од осталих мишића своје групе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ong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3160" y="260280"/>
            <a:ext cx="83091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и за свој рад троше велику количину О2 и хран материја, који стижу кс. Отпад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леч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кис и карбами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 отклањају се у супротном смеру. Уколико се после напора мишић не одмори, остаје нагомилана млечна кис (тзв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,,упала мишића,,).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сини се могу задржати у мишићу и успоравати циркулацију и доток хранљивих материја. Временом овакав мишић постаје напет и крут, а мишићно влакно бива замењено везивним влакнима. Ова  задебљања се називају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иогелозе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под прстима се могу напипати, и болна су на дод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3520" y="999720"/>
            <a:ext cx="85233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виду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иш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различ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јат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крив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об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есионал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тан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ега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глоб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што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ишић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63160" y="1214280"/>
            <a:ext cx="8094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пособљ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фикас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ор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ор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рмализац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ну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ркулац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нтокс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укт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горе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речи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троф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нервисан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огел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ernstain (1923): “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ора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ормализација тонуса  и мишићна релаксациј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ч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расимпатик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љ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ив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јат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руж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ор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им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abludovsk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 испитаник је могао да подигне терет у шаци од 1 к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брзином од 1 покрета у секунди 840 пута.  Ако би огледу претходила масажа руке, исти испитаник је могао да изведе 1100 понављ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сперимети који су изведени убризгавањем радиоактивних изотопа у испитивани мишић нису потврдили ни убрзање елиминације метаболита, нити повећање температуре у самом мишић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ом се може утицати на еластичност мишића, а тиме посредно и на већи обим покрета у зглобов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Nordchow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је експериментално доказао на групи добровољаца да је растојање између врхова прстију и тла при антефлексији трупа било мање након спровођења масаже, у односу на  вредности регистроване  пре маса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фекти масаже на масно тки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senth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можемо утицати на редукцију масног ткива и мршав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приноси бржем и ефикаснијем елиминисању метаболичких продуката. Утиче на еластичност коже, чиме кожа лакше прати морфолошке промене при губитку тежи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фект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ервн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имулише периферне нерве директним дражењем нервних наставака у кож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Н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иректно, преко периферних нера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 реаговањ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Y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ом се шире крвни судови, што би резултирало падом 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S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кундарно, крвни притисак и вредности пулса се повећавају, дисање постаје убрзано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нуелн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вор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аљењ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раз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брил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зумир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лкох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егулис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ну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ш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ав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зле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сре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ч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ч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ин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адит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војих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огућ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Overworking yorself will on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ad the breakdown of the body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WHEN ?    WHAT?  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ако је масажа метода позната хиљадама година људском роду, научна истраживања  њеног дејства на организам релативно су  новијег  датума и  малоброј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оја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о, притиском на кожу масирано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ректно, изазивајући рефлексне про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олошка дејства 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3160" y="857160"/>
            <a:ext cx="8094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роток ткивних теч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брзање протока крви и лимф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Ресорпција ото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уромускуларни систе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гулација тонуса    Аналгетски ефекат    Смањење зам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Везивно тки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е покретљив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мекшавање адхезија и ожиља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сихолошки ефе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лакса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 депресије и анксиоз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Рефлексни ефе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ње иму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/регулација крвног прити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њење бола на удаљеним мест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церосоматски и соматовисцерални рефлек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ткивне теч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13920"/>
            <a:ext cx="7650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ватови вршени у смеру кретања венске крви и лимфе убрзавају; у супротном смеру успоравају кретањ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Ризик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асност да се покрене тромб и изазове емболија, КВ, церебрална и друга оштећењ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ед убрзавања системског крвотока, масажа побољшава проток крви кроз мале капиларе, кроз које проток крви може бити ограничен услед мишићне напетости. Овај ефекат је обично одмах уочљив настанком хиперемије и повећањем локалне температуре тки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ткивне теч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3160" y="1143000"/>
            <a:ext cx="8309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следица различитих повреда меких ткива, коштаних прелома, реуматизама, итд. Вишак течности успорава процес оздрављења ткива. Глађе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тискањем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Д&gt; убрзати лимфоток и тиме поспешити ресорпцију ото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пала мишић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-услед пуца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еђеног броја везивних влакана&gt;инфламација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ок, проме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дности. Оток врши притисак на ноцицепторе&gt;бол. Побољшањем циркулације и лимфотока масажа убрзава опоравак након упале мишића, смањује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на масаже на нер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-мишићни 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ан од најчешћих разлога за примену масаже јест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мањење мишићне напето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Мишићна напетост&gt; исхемија, отпор на истезање, иритација ноцицеп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 може смањити напетост мишића, као и смањити осећај бола путем специфичног механизма 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te control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везивно тки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3520" y="1071720"/>
            <a:ext cx="73864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сције обавијају анатомске структуре појединачно и сачињене су углавном од везивног ткива. Смањена покретљивост везивног ткива може бити један од разлога бројних мускулоскелетних пробл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режа везивних ткива повезује делове тела , тако да притисак на један део утиче и на друге делове тела. Лаганим дуготрајним притиском и истезањем,везивна влакна се издужују и смањује се напетост фас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авна истраживања показују да, поред мишићне тетиве, и везивно ткиво преноси силу мишићне контракције на кости и околне структуре. Смањењем тензије везивног ткива, масажа утиче и на тонус у мишић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2:48Z</dcterms:created>
  <dc:creator>korisnik</dc:creator>
  <dc:description/>
  <dc:language>en-US</dc:language>
  <cp:lastModifiedBy>Info</cp:lastModifiedBy>
  <dcterms:modified xsi:type="dcterms:W3CDTF">2018-08-13T19:52:12Z</dcterms:modified>
  <cp:revision>83</cp:revision>
  <dc:subject/>
  <dc:title>Uvod u masažu</dc:title>
</cp:coreProperties>
</file>